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3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78C-B1B3-4460-B91D-6814B55C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481-131B-49EC-846A-BE499783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9D9-39EA-4FF1-A6DB-BBA41B1E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485-4E1A-4148-8407-7F8DBA15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3BD-43B5-4081-9D50-B71B8497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65C-4C11-4237-92F3-E2880C4F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217-7184-4AAC-A4F5-AEFC3980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B3F-DA9C-471F-B173-98D201FB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A48-7D0B-425F-9817-67672DC4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3F0-0F29-443E-B12A-2AA0C184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A2A-55FC-4B4D-9488-CD3E74EA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038-1E20-4E64-B31D-E045838D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rekker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rek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rekk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rek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rekk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rekke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rekk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rekke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rekker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rekk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2FCD-5200-400E-9838-17ECFE6D218F}" type="slidenum">
              <a:rPr b="0" lang="en-US" sz="1400" spc="-1" strike="noStrike">
                <a:solidFill>
                  <a:srgbClr val="eaeaea"/>
                </a:solidFill>
                <a:latin typeface="Trekke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380880"/>
            <a:ext cx="57913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The Origi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of Hum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502240"/>
            <a:ext cx="6095880" cy="82548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lackChancery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BlackChancery"/>
              </a:rPr>
              <a:t>Horace Greeley HS      Chappaqua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844720" y="3048120"/>
            <a:ext cx="3741840" cy="203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29200" y="3490920"/>
            <a:ext cx="350532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838080" y="2811600"/>
            <a:ext cx="3505320" cy="229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1066680" y="457200"/>
            <a:ext cx="73152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ffering Human Migration Theori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905120"/>
            <a:ext cx="7619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Are we all Africans “under the skin”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666880" y="45720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13716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147760"/>
            <a:ext cx="5562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200,000 BCE – 10,000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200400"/>
            <a:ext cx="411480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HOMO SAPIENS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( “Wise Human Being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09480" y="2908440"/>
            <a:ext cx="1905120" cy="227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4038480" y="486108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4937040"/>
            <a:ext cx="3429000" cy="7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Neanderthals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Arial Unicode MS"/>
              </a:rPr>
              <a:t>( 200,000 BCE – 30,000 BC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937040"/>
            <a:ext cx="2895480" cy="7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Cro-Magnons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Arial Unicode MS"/>
              </a:rPr>
              <a:t>( 40,000 BCE – 10,000 BC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71640" y="4175280"/>
            <a:ext cx="1143000" cy="761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4175280"/>
            <a:ext cx="1295280" cy="761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971800" y="30492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600200"/>
            <a:ext cx="3657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NEANDERTH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95680" y="2365200"/>
            <a:ext cx="4267440" cy="289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838080" y="2270160"/>
            <a:ext cx="3276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Neander Valley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Germany (18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200400"/>
            <a:ext cx="3657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humans to bur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their d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098960"/>
            <a:ext cx="3733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ade clothes fro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animal sk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089680"/>
            <a:ext cx="3505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Lived in caves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t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95480" y="38088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1447920"/>
            <a:ext cx="3200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5880" y="2057400"/>
            <a:ext cx="274320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09480" y="2362320"/>
            <a:ext cx="507996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477120" y="4022640"/>
            <a:ext cx="2057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 Unicode MS"/>
              </a:rPr>
              <a:t>Early Hut/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324480" y="4959360"/>
            <a:ext cx="2362320" cy="121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8120" y="30492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37339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 Unicode MS"/>
              </a:rPr>
              <a:t>CRO-MAGNON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2193840"/>
            <a:ext cx="4038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Homo sapiens sapie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( “Wise, wise human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524196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By 30,000 BCE the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   replaced Neanderth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5334120"/>
            <a:ext cx="1676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 Unicode MS"/>
              </a:rPr>
              <a:t>WHY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3880" y="3263760"/>
            <a:ext cx="5931000" cy="15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724280" y="5562720"/>
            <a:ext cx="14479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057400" y="2641680"/>
            <a:ext cx="4889520" cy="292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 txBox="1"/>
          <p:nvPr/>
        </p:nvSpPr>
        <p:spPr>
          <a:xfrm>
            <a:off x="1371600" y="68580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o sapiens sapiens in Europe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600200" y="53352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Last Ice A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270160"/>
            <a:ext cx="6858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Unicode MS"/>
              </a:rPr>
              <a:t>70,000 BCE – 10,000 B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266920" y="3200400"/>
            <a:ext cx="46674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752480" y="76212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olithic A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249876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Neolithic”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 --&gt;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“New Stone”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326088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10,000 BCE – 4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4022640"/>
            <a:ext cx="335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Gradual shift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4495680"/>
            <a:ext cx="6477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Nomadic lifestyle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--&gt; settled, stationer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                               lifest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5470560"/>
            <a:ext cx="64771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Hunting/Gathering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--&gt; agricultural producti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                                 and domestication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                                 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2193840"/>
            <a:ext cx="4952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8,000 BCE – 5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2895480"/>
            <a:ext cx="6553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Arial Unicode MS"/>
              </a:rPr>
              <a:t>Agriculture developed independently in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Arial Unicode MS"/>
              </a:rPr>
              <a:t>   different parts of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673440"/>
            <a:ext cx="449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ffff"/>
              </a:buClr>
              <a:buSzPct val="125000"/>
              <a:buFont typeface="Bridgnor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SLASH-AND-BURN F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132520"/>
            <a:ext cx="7848720" cy="12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 Unicode MS"/>
              </a:rPr>
              <a:t>Middle East      India      Central America      China      Southea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 Unicode MS"/>
              </a:rPr>
              <a:t>8,000 BCE     7,000 BCE     6,500 BCE    6,000 BCE        5,00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5665680"/>
            <a:ext cx="5943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437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43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543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543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543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3200400"/>
            <a:ext cx="2438280" cy="1295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429000"/>
            <a:ext cx="18288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438280"/>
            <a:ext cx="1676160" cy="8384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572000"/>
            <a:ext cx="167652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2362320"/>
            <a:ext cx="167616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648320"/>
            <a:ext cx="167652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3124080"/>
            <a:ext cx="8380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71800" y="434340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91320" y="320040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343400"/>
            <a:ext cx="838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3181320"/>
            <a:ext cx="5715000" cy="207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Theories on prehistory and early man constantly change as new evidence comes to light.       </a:t>
            </a:r>
            <a:br>
              <a:rPr sz="2600"/>
            </a:b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- Louis Leakey, British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paleoanthrop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609480"/>
            <a:ext cx="6019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The First Huma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89880" y="2971800"/>
            <a:ext cx="1539720" cy="26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5791320" y="4648320"/>
            <a:ext cx="7617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2133720"/>
            <a:ext cx="6705720" cy="31413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ahoma"/>
              </a:rPr>
              <a:t>Why do you think the development of agriculture occurred around the same time in several different pla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9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438280"/>
            <a:ext cx="6705720" cy="27752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Tahoma"/>
              </a:rPr>
              <a:t>Why do some archaeologists believe that women were the first farm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990720" y="53352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905120"/>
            <a:ext cx="7848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Growing crops on a regular basis made possible the </a:t>
            </a:r>
            <a:br>
              <a:rPr sz="2400"/>
            </a:b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   support of larger pop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743200"/>
            <a:ext cx="7467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More permanent, settled communities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3352680"/>
            <a:ext cx="7848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9,000 BCE --&gt; Earliest Agricultural Settlement at</a:t>
            </a: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 JARMO</a:t>
            </a:r>
            <a:r>
              <a:rPr b="1" lang="en-US" sz="24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( northern Iraq ) --&gt;</a:t>
            </a: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>
            <a:lum contrast="24000"/>
          </a:blip>
          <a:srcRect l="12505" t="8141" r="12505" b="15118"/>
          <a:stretch/>
        </p:blipFill>
        <p:spPr>
          <a:xfrm>
            <a:off x="1676520" y="4495680"/>
            <a:ext cx="24382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3">
            <a:lum contrast="6000"/>
          </a:blip>
          <a:srcRect l="6942" t="2220" r="18058" b="24657"/>
          <a:stretch/>
        </p:blipFill>
        <p:spPr>
          <a:xfrm>
            <a:off x="4952880" y="4495680"/>
            <a:ext cx="274320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66680" y="533520"/>
            <a:ext cx="7010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883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8,000 BCE --&gt; Largest Early Settlement at</a:t>
            </a: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Ç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atal H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ea typeface="Arial"/>
              </a:rPr>
              <a:t>ü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yük</a:t>
            </a:r>
            <a:r>
              <a:rPr b="1" lang="en-US" sz="2400" spc="-1" strike="noStrike">
                <a:solidFill>
                  <a:srgbClr val="ffff66"/>
                </a:solidFill>
                <a:latin typeface="Arial Unicode MS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( Modern Turkey ) --&gt; 6,000 in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505320"/>
            <a:ext cx="2971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Division of l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11480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Engaged i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724280"/>
            <a:ext cx="3733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Organized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334120"/>
            <a:ext cx="2438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Small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895480"/>
            <a:ext cx="3048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12 cultivated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648320" y="4114800"/>
            <a:ext cx="4064040" cy="74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5029200" y="5029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n obsidian da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90720" y="533520"/>
            <a:ext cx="7010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3657600" cy="26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546360" cy="41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1447920" y="5257800"/>
            <a:ext cx="2255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Çatal Hüy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895480" y="49525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5486400"/>
            <a:ext cx="1371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209680"/>
            <a:ext cx="7848720" cy="34455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Tahoma"/>
              </a:rPr>
              <a:t>What role did the food supply play in shaping the nomadic life of hunter-gatherers and the settled life of the farm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1143000"/>
            <a:ext cx="8153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y is the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Neolithic Revolution"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turning poin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human history?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33520" y="1143000"/>
            <a:ext cx="8153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is 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xt step in the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velopment 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man settlements?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914400" y="365760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VILIZATIONS !!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438280" y="838080"/>
            <a:ext cx="4724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TIES 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21337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990720"/>
            <a:ext cx="8153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are 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racteristic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a civilization?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71600" y="1324080"/>
            <a:ext cx="6477120" cy="50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2514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Early Discover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95480" y="167652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VILIZATIO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4724280"/>
            <a:ext cx="1447920" cy="129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e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13336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971800" y="28954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2895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2819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47920" y="457200"/>
            <a:ext cx="6324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s of Earl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Human Develop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895480"/>
            <a:ext cx="5181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.  4,000,000 BCE – 1,000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505320"/>
            <a:ext cx="5181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2.  1,500,000 BCE -- 250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114800"/>
            <a:ext cx="449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3.  250,000 BCE – 30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724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4.  30,000 BCE -- 10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429000"/>
            <a:ext cx="2666880" cy="147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i="1" lang="en-US" sz="2000" spc="-1" strike="noStrike">
                <a:solidFill>
                  <a:srgbClr val="66ffff"/>
                </a:solidFill>
                <a:latin typeface="Arial Unicode MS"/>
              </a:rPr>
              <a:t>Paleolithic Age</a:t>
            </a:r>
            <a:r>
              <a:rPr b="1" lang="en-US" sz="2000" spc="-1" strike="noStrike">
                <a:solidFill>
                  <a:srgbClr val="66ffff"/>
                </a:solidFill>
                <a:latin typeface="Arial Unicode MS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 Unicode MS"/>
              </a:rPr>
              <a:t>( Old Stone Ag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Unicode MS"/>
              </a:rPr>
              <a:t>2,500,000 BCE 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 Unicode MS"/>
              </a:rPr>
              <a:t>   to 8,0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81080" y="327636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3276720"/>
            <a:ext cx="12956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495288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5181480"/>
            <a:ext cx="12193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676520" y="4572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aleolithic A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828800"/>
            <a:ext cx="5562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Paleolithic”</a:t>
            </a: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 --&gt;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“Old Stone”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2362320"/>
            <a:ext cx="4876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2,500,000 BCE – 10,0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876920"/>
            <a:ext cx="6095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hunting (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en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) &amp; gathering (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women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         --&gt; small bands of 20-30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5715000"/>
            <a:ext cx="6095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NOMADIC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 (moving from place to 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895480"/>
            <a:ext cx="198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Mad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3276720" cy="15285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12408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19520" y="457200"/>
            <a:ext cx="3352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1828800"/>
            <a:ext cx="571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4,000,000 BCE – 1,000,000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2803680"/>
            <a:ext cx="40384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Hominids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--&gt; any memb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 of the family of two-legg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 primates that includes 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4784760"/>
            <a:ext cx="2971800" cy="109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Australopithe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946920" y="2932200"/>
            <a:ext cx="1295280" cy="2325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1966680" cy="2557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477120" y="5470560"/>
            <a:ext cx="2666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n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Apposabl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Thu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819520" y="457200"/>
            <a:ext cx="3276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1676520"/>
            <a:ext cx="350496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HOMO HABILIS</a:t>
            </a:r>
            <a:br>
              <a:rPr sz="2400"/>
            </a:br>
            <a:r>
              <a:rPr b="1" lang="en-US" sz="2400" spc="-1" strike="noStrike">
                <a:solidFill>
                  <a:srgbClr val="ccccff"/>
                </a:solidFill>
                <a:latin typeface="Arial Unicode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( “Man of Skills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651040"/>
            <a:ext cx="3200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dgnorth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ound in East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2979720" cy="34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05720" y="484200"/>
            <a:ext cx="1828800" cy="172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447920" y="3260880"/>
            <a:ext cx="3276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reated stone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rcRect l="0" t="0" r="0" b="15850"/>
          <a:stretch/>
        </p:blipFill>
        <p:spPr>
          <a:xfrm>
            <a:off x="1143000" y="3962520"/>
            <a:ext cx="30225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28800" y="3808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aleolithic A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660680"/>
            <a:ext cx="7315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Humans during this period found shelter in c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62520" y="2743200"/>
            <a:ext cx="2057400" cy="156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8120" y="4749840"/>
            <a:ext cx="570204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143000" y="2193840"/>
            <a:ext cx="4419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Arial Unicode MS"/>
              </a:rPr>
              <a:t>Cave paintings left beh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248520" y="3429000"/>
            <a:ext cx="761760" cy="76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2096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3276720"/>
            <a:ext cx="18288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 Unicode MS"/>
              </a:rPr>
              <a:t>Purpose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85800" y="3200400"/>
            <a:ext cx="1905120" cy="20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 flipH="1">
            <a:off x="7467120" y="3733920"/>
            <a:ext cx="228600" cy="761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971800" y="4572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1600200"/>
            <a:ext cx="5334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Unicode MS"/>
              </a:rPr>
              <a:t>1,6000,000 BCE – 30,000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209680"/>
            <a:ext cx="434340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HOMO ERECTUS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( “Upright Human Being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57800" y="2743200"/>
            <a:ext cx="336564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762120" y="3794040"/>
            <a:ext cx="4647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Larger and more var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tools --&gt; primitiv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784760"/>
            <a:ext cx="44956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hominid to migrate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leave Africa for Europe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 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6095880"/>
            <a:ext cx="4724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rst to use fire ( 500,000 BC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 rot="1364400">
            <a:off x="6019920" y="5486400"/>
            <a:ext cx="97128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6520" y="3184560"/>
            <a:ext cx="2361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</a:rPr>
              <a:t>BIPED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00:43:49Z</dcterms:created>
  <dc:creator>Susan M. Pojer</dc:creator>
  <dc:description/>
  <dc:language>en-US</dc:language>
  <cp:lastModifiedBy>Susan</cp:lastModifiedBy>
  <dcterms:modified xsi:type="dcterms:W3CDTF">2007-07-04T04:11:47Z</dcterms:modified>
  <cp:revision>141</cp:revision>
  <dc:subject/>
  <dc:title>The Origin of Humans</dc:title>
</cp:coreProperties>
</file>